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CF40-05B2-4345-8FB9-521D1D64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90E2-6BCB-4A43-8485-CF7252AB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2611-8C02-4E3F-A22E-76D28833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8ACCD-CB5F-4EEC-B040-AD64394A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1AFB-2A29-42FA-B0B3-C7835503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6FF7-0B03-4348-B5B4-CCC23C88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F718-7A01-43F5-868B-A17B1D01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8A57-DD94-4ED0-A9C0-2667D8FD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815F-7A2B-4F1A-B0FB-69B8DD1C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6991-781C-456F-9560-B93FDF85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1E1E-55BA-421A-9E92-2801DA7F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DED9-684D-49CC-9343-A1F663C4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96A9-6800-49C2-85FD-83B56E77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AFCA-2680-46E4-9995-FC2EA2A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C9EA-54F7-4978-A3D4-351A7D37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F46F-7545-4BB9-8DCD-FBAEB634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D047-6301-4F8F-952B-8C1AFB3D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6282-DDE9-4835-8767-E1E73C64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A9AC-91B7-4225-9D06-0AB04845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FD79-BE46-4496-AEA1-B7197E6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394C-0A88-42DF-B0FB-0729148F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4CF4-99D6-433E-9973-5BBBF5DB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E27B-8729-4423-9271-BEC2A58F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8412-A40D-4C63-ACFE-3ACEED10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C9C7-4052-4E07-B8AA-AFE295867484}" type="slidenum"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B305-2F7C-4567-9455-93CA2C3A8D7E}" type="slidenum"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o.wikipedia.org/wiki/participarea" TargetMode="External"/><Relationship Id="rId2" Type="http://schemas.openxmlformats.org/officeDocument/2006/relationships/hyperlink" Target="http://ro.wikipedia.org/wiki/participarea" TargetMode="External"/><Relationship Id="rId3" Type="http://schemas.openxmlformats.org/officeDocument/2006/relationships/hyperlink" Target="http://ro.wikipedia.org/wiki/participarea" TargetMode="External"/><Relationship Id="rId4" Type="http://schemas.openxmlformats.org/officeDocument/2006/relationships/hyperlink" Target="http://ro.wikipedia.org/wiki/participarea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JURNAL DE RAZBOI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40384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20 noiembrie 191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m plecat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preu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cu familia regal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Consiliul de Mini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ri spre Iasi. T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suntem preocup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. Bucure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iul este sub ocup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a milita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a armatelor Puterilor Centrale ! Moldova este pentru noi acum “p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ul f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g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dui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ei” fiind singurul teritoriu ro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esc liber. Primul ministru Bratianu vorbe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 despre reorganizarea noast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H.Berthelot ,generalul trimis de Fra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 ne va ajuta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ne reorganiz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e mobiliz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 iar regina Maria va organiza Crucea Rosi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46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0" y="836640"/>
            <a:ext cx="446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41004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Iulie 191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uterile Centrale au reluat oper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unile militare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doresc cucerirea Moldov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August 191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e aici nu se trece” au spus sold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i n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rii , lup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d cu eroism la 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i (11/19 iulie) , 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e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i (24 iulie 6 august) , Oituz (26 iulie-9 august). Vitejia lor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seam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victoria noast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, a ro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ilor. Victoria dar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jertfa lor ne-au f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ut pe noi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cepem din nou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spe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 ,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vi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 la refacerea unit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i n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ona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7" descr="C:\Documents and Settings\madalin\Application Data\Microsoft\Media Catalog\mausoleul de la marasesti.jpg"/>
          <p:cNvPicPr/>
          <p:nvPr/>
        </p:nvPicPr>
        <p:blipFill>
          <a:blip r:embed="rId1"/>
          <a:stretch/>
        </p:blipFill>
        <p:spPr>
          <a:xfrm>
            <a:off x="5580000" y="333360"/>
            <a:ext cx="3379680" cy="32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Documents and Settings\madalin\Application Data\Microsoft\Media Catalog\EcaterinaTeodoroiu.jpg"/>
          <p:cNvPicPr/>
          <p:nvPr/>
        </p:nvPicPr>
        <p:blipFill>
          <a:blip r:embed="rId2"/>
          <a:stretch/>
        </p:blipFill>
        <p:spPr>
          <a:xfrm>
            <a:off x="5580000" y="3716280"/>
            <a:ext cx="338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Octombrie 19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Bucuria a fost de scur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dur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. Vin zvonuri alarmante din est. Bol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evicii au preluat putere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 Rusi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anu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dori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 de 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cheia un armist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u cu Puterile Centra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per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nu fie de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 un zvon alarmant. Altfel……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Martie 191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usia a ie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t din razboi. Au semnat la Brest-Litovsk pace cu Puterile Centrale. Oare ce se v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pla cu noi acum ? Ni s-a 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at orice leg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u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cu Angli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Fra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. Nu mai putem primi mun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e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armament.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nu mai vorbim de alimente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echipament sanita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untem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conjura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de Puterilie Centrale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singura noast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leg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u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cu Antanta , leg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u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mai u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oa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, s-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trerupt od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ce Rusia a semnat pace separ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cu Puterile Centra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e aude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Alexandru Marghiloman poar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negocieri la Buftea cu Puterile Centrale pentru a scoate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a din razboi. Spe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tru-n rezultat bu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Octombrie 191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edecla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 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boi Puterilor Centrale. Regele nu a ratificat pacea de la Buftea-Bucu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L-am v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ut sup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at. Trebuia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d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 Dobroge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accep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 monopolul economic al Germaniei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Austro-Ungariei. Regele nu a accept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8920" y="907920"/>
            <a:ext cx="403884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Noiembrie 191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Germania a capitulat. Ne-am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tors la Bucure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i. Este lume mult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pe str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zi,flori, bucurie! Solda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i no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rii sunt primi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 cu flori. A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a cum merit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! Acum ne putem vedea visul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plinit. Am luptat pentru el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 urmeaz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-l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plinim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500360" cy="3046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27640" y="3429000"/>
            <a:ext cx="4465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17672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18 noiembrie 1918</a:t>
            </a:r>
            <a:r>
              <a:rPr b="1" lang="ro-RO" sz="2000" spc="-1" strike="noStrike" u="sng">
                <a:solidFill>
                  <a:srgbClr val="ffffff"/>
                </a:solidFill>
                <a:uFillTx/>
                <a:latin typeface="Monotype Corsiva"/>
              </a:rPr>
              <a:t> /1 DECEMBR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untem la Alba Iulia. Actul de voi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l na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unii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e de a locui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tr-un singur stat se va realiza as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i 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s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i este bila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ul luptei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lor pentru unitate , lup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care vine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cununeze precedentele a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uni ale fra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lor din Basarabia , din ziua de 27 martie 1918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Bucovina-15 noiembrie 191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Poporul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 a luptat , a suportat multe pierderi dar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-a v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ut visul de veacuri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plin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Este 18 noiembrie/1 Decembrie 1918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putem spune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ne-am relizat visu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untem un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, vorbim , g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dim , si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m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ne pur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e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untem un stat na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onal unitar 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330800" cy="309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392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403848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1 Decembrie 191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egele 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nut o cuv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are em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onan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……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d am luat m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nire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emeietorului Ro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iei Moderne , am f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g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duit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aintea reprezenta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lor N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unii , 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voi fi bun Ro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red 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m-am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nut de cuv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. Grele au fost timpurile , mari au fost jertfele , dar st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luci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e 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splat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astazi pot spune cu fruntea seni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:f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 de Dumnezeu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f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de poporul meu am co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ii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 cura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.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745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2" marL="948600" indent="-18972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rezen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stfel evenimente importante din istoria noastr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,ne aju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le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elegem mai bine,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le putem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p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r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celorlal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, ne permite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vi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ehnologia ne aju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prezen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descriem mai bine or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Recunosc ca povestea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noastr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are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o no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e fic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une( construc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a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castelului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de la Balcic a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ceput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 1925) dar cui nu-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face pl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ere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visez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i-a f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ut pl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ere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pot intra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 atmosfera Bucure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iului de al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a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,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m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imaginez ba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d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 lung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-n lat culoarele castelelor Balcic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Pele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, al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uri de Regin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…..,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creez o atmosfer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de poveste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 jurul ei pentru ca apoi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pot spune: am fost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eu aici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bliografie </a:t>
            </a:r>
            <a:r>
              <a:rPr b="0" lang="ro-RO" sz="3200" spc="-1" strike="noStrike">
                <a:solidFill>
                  <a:srgbClr val="ffffff"/>
                </a:solidFill>
                <a:latin typeface="Monotype Corsiva"/>
              </a:rPr>
              <a:t> utilizată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1125360"/>
            <a:ext cx="624672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http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ro.wikipedia.org/wiki/participarea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romaniei la primul razboi mo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:/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www.edusoft.ro/rol/  primul razboi mondial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tp://ro.wikipedia.org/wiki/ marea _unire_din_19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tp://enciclopediaromaniei.ro/ wiki/portal:marea_un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tp://ro.wikipedia.org/wiki/casa _regala _a_romani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tp://ro.wikipedia.org/wiki/castelul_din _balc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tp://ro.wikipedia.org/wiki/ maria_a_romani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aterial realizat de elevii clasei a VIII-a 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Sunt corespondent al ziarului central , Timpuri Noi si am fost trimis de redactie pentru a realiza un material despre familia de Hohenzoller</a:t>
            </a:r>
            <a:r>
              <a:rPr b="1" lang="ro-RO" sz="3200" spc="-1" strike="noStrike">
                <a:solidFill>
                  <a:srgbClr val="ffffff"/>
                </a:solidFill>
                <a:latin typeface="Monotype Corsiva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-Sigmarigen , familia regal</a:t>
            </a:r>
            <a:r>
              <a:rPr b="1" lang="ro-RO" sz="32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a Rom</a:t>
            </a:r>
            <a:r>
              <a:rPr b="1" lang="ro-RO" sz="32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nie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438768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2 iunie 191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m ajuns la Balcic.Nu este prima data cand o ins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esc pe principesa Maria aici , dar , de fiecare da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esimt acel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fior 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d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rez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esc de dup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deal ochiul albastru al 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Balcicul i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p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streaz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aceei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atmosfe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olora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misterioa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are o atrage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 fiecare an pe principesa Maria aici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oda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u ea pe mine.As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sea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ri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ul m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nito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Ferdinand I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principesa Maria au invit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.Principesa preg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 o sea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muzical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George Enescu ne v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a cu ultima lui opere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: “Oedip Rege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464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403848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ffffff"/>
                </a:solidFill>
                <a:uFillTx/>
                <a:latin typeface="Monotype Corsiva"/>
              </a:rPr>
              <a:t>5 iunie 191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Este o atmosfe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tension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aici. Principele Ferdinand si principesa Maria sunt tr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i. Au ve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i de la Sinaia. Am aflat ca regele Carol I este grav bolnav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ei se tem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u mai poate fii salvat. Principele vorbe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e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despre izbucnirea u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ui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azboi pentru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arile Puteri doresc re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pa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rea sferelor de influe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 lum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Monotype Corsiva"/>
              </a:rPr>
              <a:t>28 iunie 191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Plecam spre Sinaia. Am aflat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Franz Ferdinand , mo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enitorul coroanei Austro-Ungariei a fost ucis de un student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b. Principele Ferdinand I spune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Austro-Ungaria si Germania vor declara 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boi Serbie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Eu 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treb ce va face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a ? Oare regele Carol I de Hohenzolle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n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va ho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especte tratatul cu Puterile Centrale ? Oare vom declara razboi Serbiei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ne vom alatura Germaniei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115560"/>
            <a:ext cx="4038480" cy="6010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30680" y="115920"/>
            <a:ext cx="4086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403848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21 iulie 1914 , diminea</a:t>
            </a:r>
            <a:r>
              <a:rPr b="1" lang="ro-RO" sz="2000" spc="-1" strike="noStrike" u="sng">
                <a:solidFill>
                  <a:srgbClr val="ffffff"/>
                </a:solidFill>
                <a:uFillTx/>
                <a:latin typeface="Monotype Corsiva"/>
              </a:rPr>
              <a:t>ţ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a , Sina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p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a trecu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ustro-Ungari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Germania au declarat 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boi Serbiei. Principesa Maria este preocup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de ho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ea Consiliului de Coroa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. Ea spune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a trebuie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-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i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declare poz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a…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21 iulie 1914 , seara, Sina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……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edi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 Consiliului de Coroana s-a terminat.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a este neutr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 acest 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boi. Cel pu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n deocamd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. Germania probabil , nu va aprecia poz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a lui Carol I de Hohenzollern , pe a carui su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nere miz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Carol I a declarat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a este neut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preciz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d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 invocat clauzele defensive ale tratatului pe care il semnase  cu Puterile Centra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692280"/>
            <a:ext cx="40384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03884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28 septembrie 191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Este doliu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 familia Princiar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. Carol I s-a stins din via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, ieri la Sina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Ast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zi principele Ferdinand va depune juram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t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 calitate de rege al Rom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ei. Principesa se teme ca nu cumva mo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enitorul regal 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u se ridice la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al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mea a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ept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rilor rom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lor.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ie c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Ferdinand este emotiv , dar ea va fi acolo 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-l su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n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, 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 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ve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e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preuna 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fie buni rom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16360" y="404640"/>
            <a:ext cx="4254480" cy="6048720"/>
            <a:chOff x="4716360" y="404640"/>
            <a:chExt cx="4254480" cy="60487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716360" y="404640"/>
              <a:ext cx="4254480" cy="60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4716360" y="404640"/>
              <a:ext cx="4254480" cy="604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449568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Monotype Corsiva"/>
              </a:rPr>
              <a:t>Iulie 19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M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plimb pe str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zile Bucure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iului. Peste tot se vorbe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e doar de razboi. Ferdinand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 primul ministru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onel Br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ianu au facut parte din delega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a care a purtat negocieri cu Antanta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Peste tot se vorbe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e despre implicarea Rom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niei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n r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zboi a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l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uri de alian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 Antantei. To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 spun c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aceasta este singura posibilitate de a ne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mplini visul. Trebuie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ne ajutam fra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i din Ardeal , tr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buie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fim o Rom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nie Mare 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Monotype Corsiva"/>
              </a:rPr>
              <a:t>4/14 august 1916-Bucures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Regina este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nc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ntat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e semnarea tratatului cu Antanta. Spune c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urmeaz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primim zilnic 300 de tone de armament si muni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e de la puterile Antantei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 armata Rusiei trebuie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participe al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uri de armatele noastre la ap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rarea Dobrogei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Consiliul de Coroana a hot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 soarta Romaniei ! Regina Maria este optimist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ie c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Ferdinand va putea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se inving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pe sine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lupte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mpotriva Germaniei ,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ra lui de origin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620640"/>
            <a:ext cx="40384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7640" y="1196640"/>
            <a:ext cx="43988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August 1916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m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s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t-o pe regina Mari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 mijlocul sold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lor. Am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p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t alimente , am ajutat l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grijirea 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i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lor. Ea i-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curajat tot timpul. T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o respec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o iubesc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am v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zut 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au apreciat preze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 ei in mijlocul lor , pe fro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ici se ma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se bea al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uri de mo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, se doarme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 mijlocul lor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cu toate astea sold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i n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ri manifes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un mare entuziasm patrioti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392360" cy="288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356000" y="3645000"/>
            <a:ext cx="4608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Septembrie 191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Zvonurile pe care le-am auzit s-au adeverit. Dup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ce bravii n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ri ost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au eliberat Br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ovul , entuziasmul lor a fost diminuat de pierderea b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liei de la Turtucaia de pe frontul de sud. Armata generalului Auguste von Mackensen a reu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t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sparg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frontul din Valea Jiului , a ocupat Dobroge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se indreap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spre Bucure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C:\Documents and Settings\madalin\Application Data\Microsoft\Media Catalog\oituz_1_l.jpg"/>
          <p:cNvPicPr/>
          <p:nvPr/>
        </p:nvPicPr>
        <p:blipFill>
          <a:blip r:embed="rId1"/>
          <a:stretch/>
        </p:blipFill>
        <p:spPr>
          <a:xfrm>
            <a:off x="4932360" y="26028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madalin\Application Data\Microsoft\Media Catalog\transee_marasesti_l.jpg"/>
          <p:cNvPicPr/>
          <p:nvPr/>
        </p:nvPicPr>
        <p:blipFill>
          <a:blip r:embed="rId2"/>
          <a:stretch/>
        </p:blipFill>
        <p:spPr>
          <a:xfrm>
            <a:off x="4932360" y="3500280"/>
            <a:ext cx="378144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27:42Z</dcterms:created>
  <dc:creator>User</dc:creator>
  <dc:description/>
  <dc:language>en-US</dc:language>
  <cp:lastModifiedBy>User</cp:lastModifiedBy>
  <dcterms:modified xsi:type="dcterms:W3CDTF">2010-11-14T15:21:46Z</dcterms:modified>
  <cp:revision>39</cp:revision>
  <dc:subject/>
  <dc:title>JURNAL DE RAZBOI</dc:title>
</cp:coreProperties>
</file>